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gif" ContentType="image/gif"/>
  <Override PartName="/ppt/media/image8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BB2A-552C-42DD-984C-03262C6C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3417-A435-4CE2-AEF9-891D0FF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6802-ECB8-472A-A575-8BA81DCF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DCA8-07A3-4C94-B25B-8D2A9FEB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BE23-97D4-40EA-A179-E52E058B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3E0A-BA20-4F60-9DFD-F1E582D3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0329-300F-41DA-A3FF-1E8F992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178B-C475-4CF0-AA76-A860D170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DCD2-D562-43D0-A419-D93216FD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B62A-3580-4ABB-B7C5-9FE7B23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99A-8EB1-43E7-A293-A545D0B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27E2-F6F9-45F3-BE76-7619B0EB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96C5-AD2C-480A-BDE7-F95CD4F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3CCE-9429-48BE-91DF-BEE75F31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DC9-226E-47AD-B003-600E036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888-CDFE-47E2-8EED-4F8A3FDE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8EBA-9F64-4444-9C4B-93157371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FB21-4A90-45D4-8B34-F9D2B672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A9F8-08A7-4467-A07A-FF4FC5B2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0513-D530-4DFB-A468-30F819F7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65E8-2200-4BCC-B4F6-4C2F6D44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CBCA-0F22-4E8B-8512-78F17FB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C833-7476-46D6-BA68-1741C738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4898-1E6F-4CD8-B73E-6834BA9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7657-4AA9-48A0-B056-899EAFD3C7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4C2-5D0E-47B1-B081-2C715C9A1F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153640" cy="2743200"/>
          </a:xfrm>
          <a:prstGeom prst="rect">
            <a:avLst/>
          </a:prstGeom>
          <a:solidFill>
            <a:srgbClr val="0099cc"/>
          </a:solidFill>
          <a:ln w="7632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"/>
              </a:rPr>
              <a:t>THINGS GOOD READERS 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038840" cy="2687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48320" y="2590560"/>
            <a:ext cx="4038480" cy="289548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ok at the cover and tit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ok at some of the pictures and read some of the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95680" cy="114300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51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14"/>
                </a:solidFill>
                <a:latin typeface="Garamond"/>
              </a:rPr>
              <a:t>P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518184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3886200" cy="345924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Ask who, what, where, when, why, and how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Decide if what you’ve read makes s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29200" y="2620800"/>
            <a:ext cx="33526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PREDI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Wonder about what will happen nex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Make guesses and read to see if your predictions are correc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886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514"/>
                </a:solidFill>
                <a:latin typeface="Garamond"/>
              </a:rPr>
              <a:t>INFE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3886200" cy="399276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Imagine the detai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the words that you have read to help determine what the author means (read between the lin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01992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514"/>
                </a:solidFill>
                <a:latin typeface="Garamond"/>
              </a:rPr>
              <a:t>CONNEC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late what you have read to what you know and to your thoughts, experiences, and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mpare what you have read to other texts and to the world around 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640" y="264312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34340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FE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9112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Much of the meaning we get from a piece of text comes from the emotions we feel when we read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he stronger the connection we make to the text, the stronger our feelings are toward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18860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579132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SUMMARIZ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718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raw your own conclusions and connect the detai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Use graphic organiz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EVALU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1905120"/>
            <a:ext cx="4038480" cy="452592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hink about what you have re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sk yourself what you have learn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sk yourself if it was important to you.  Think about why or why no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sk yourself if you liked what you read.  Think about why or why no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9:57:10Z</dcterms:created>
  <dc:creator>nbdoe</dc:creator>
  <dc:description/>
  <dc:language>en-US</dc:language>
  <cp:lastModifiedBy>nbdoe</cp:lastModifiedBy>
  <dcterms:modified xsi:type="dcterms:W3CDTF">2006-12-06T18:52:12Z</dcterms:modified>
  <cp:revision>3</cp:revision>
  <dc:subject/>
  <dc:title>Slide 1</dc:title>
</cp:coreProperties>
</file>